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A29-6709-457A-83EA-7F6BA0D6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759-CC22-474B-99CB-0EFF5D28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8EF63-1B4E-4028-AD5F-46B6C335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C1430-9062-43A7-8681-946FE344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9376C-BE2D-4124-B63E-3681D82C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2587B-5BAD-4CDB-9FCA-90C33046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3D156-9911-434C-8E20-CB8F1ADE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E87A3-A2F5-4C84-945F-8749CA7F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D571E-4005-4349-BEAC-0D4F00C5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A84FF-14B1-41D5-B020-276EC566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4D021-97D0-413E-8D85-719686CB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C751F-E924-46B3-A680-943E7992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555-A574-4260-8B36-9200549D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AF6B7-4855-47E9-985A-CF2A7B76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52EFB-8B65-428D-B1BE-A7762E75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98297-7B45-453D-8F42-B22A8567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A8BEC-6E9F-4E20-9FE4-A96B2866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27209-5430-4B92-8D7F-D96F0B0F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F1FF7-D041-41E3-A002-DD053BDD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791B3-D530-47AD-BD5B-0C51E7BA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24DFD-3FB4-4A98-BA91-A196E6A9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7913B-D537-4210-B6BC-1B756EF8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A9D56-4B2F-4FDF-96CC-01856D4B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92C-8866-4876-B740-530A2466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E10DC-8FF9-4627-9DA9-2B840877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31BD3-E39B-48E5-8C90-051AF3A7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505F5-EA64-4CE9-B9BF-C0155B5A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84458-C384-42DB-A75A-641AB347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FC5E6-E0B6-4FA8-A152-0B7C7E1F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85E35-2D63-4847-8A6F-D6DE1100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9C9BB-E868-48E3-BEF2-AEFEF8C4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4B662-062A-4FE6-9437-F1466AEC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99FBD-6969-4DF7-B345-0F92DC23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6E6C8-B6F9-46A6-AE03-68438A8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5C5D-C991-4C75-A037-CFA4CD9A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93E12-E6F6-46A8-A5C8-AEF5C003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BCC6A-6CC0-4486-950D-4A7C2961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AB91F-4861-4D80-BFD7-7A1F356B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39F08-DDF1-435D-8D85-F6F31672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EAF0F-3BD3-412E-A115-4EE7404E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0B904-B7FA-432C-BE1B-99F84ABC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ACEC2-0385-4F2C-950D-738EFEF9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E2CF2-7497-42EA-A31B-11A5B2C0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F9C84-81EA-408A-BF44-43BC7449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CBB2E-11C6-462C-A2D8-45AF8D91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F69E-C99C-4667-A0D8-F5761075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6A2BF-035C-4A95-90BE-71CBD57B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A05DE-E199-4E9B-8C8B-8E5F3958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A6845-3FBF-4B23-BF19-5FF07F3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1BC5A-06FF-49AD-A7C2-3C8A8635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E3BDF-AA3A-43DD-B702-ADDBC30D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20E56-BFEB-4523-9EC7-66A6E882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3C1AC-4F04-488E-A525-2F34FB63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35400-E1F6-4827-BEDA-B59276E0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BEAEA-BD0E-4B35-BDE9-FE464A57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6FB7B-4C2A-45CF-B566-B8FE8C6B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67D4-D734-472F-888E-58D9E0D3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339A5-CD81-495C-B04B-F88343BB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D8FA2-3483-4D1A-9386-BFEE4AEF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E97E1-0A46-4C04-A1B0-177DE0AC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023BD-9F4C-4C0A-8D39-35551EE7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2B96B-F70D-431A-B351-ED8D7DE0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874A4-FC0A-466E-BFBF-3EEB4223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6F35F-1D49-4652-BAE5-11DD5FB9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BB76D-7092-4467-B86B-71A4C186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05CAC-39F7-436C-AC86-3EE061D2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0972F-2F5B-40D0-94D4-CE4E0F75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5E0C-3975-4087-A130-10F39F5C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6CD59-56AF-42F1-8111-1653E275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E50B1-7B4E-4E89-8FB3-1697D8E1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C7B07-55AC-4CEE-9DEB-DF18F9AD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3C585-F111-4E8D-9C9A-8387C108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0A185-D02A-4078-9EB8-73558E2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E452D-040B-409F-9D3E-2AC038D7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F82AE-F2D7-4AF8-9121-57C6CCE8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30AB9-6FAC-45D8-87EA-B03E0BA3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65A4B-65ED-4595-9B27-CF3E35FB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59B8B-0401-4CBA-9A2E-1259FDF7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5E08-AB93-4C7D-B342-8E0BDF7E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8B0F5-B0DB-4351-B065-759420E8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AF05F-289E-4E66-8036-AA4F07CA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A9C4E-2908-4D17-A91D-E09F710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FEFB8-04AA-446F-BE85-E4C4DF59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397D1-BEDD-4352-9668-C99622F8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A7074-27D9-435D-8276-463961FD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CD465-CB64-4B01-BC4C-EDD5211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38D6B9-0D65-4C36-B757-8FCC322E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8585D-E595-4C98-986D-6AD3143A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6EB80-0F5A-4079-A2B3-168D0C9C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6449-69F0-4246-8A4E-79F3CD7A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C72C4-23A4-4596-AAFC-9CE9565C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E750A0-6CAB-467D-9731-EAE0DDA9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4B8FA-F756-4231-8062-9934997E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BB20E-5721-42BD-B704-9B6CC77C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62BD4-3280-4CEC-B697-F0027B6A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20C68-2A2C-487E-8A37-7639D9A9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8EAFF-C2D4-4045-8CB8-046A3979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785A0-7F11-4BD1-8145-70519C7F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6EDE4-7BCD-488B-88ED-EB5B0C93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E7267-A7FE-455A-951A-3062B14B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4F2E-CD85-4B8C-A83B-3B7B4674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D4520-801D-43FC-AEE5-4BC02F1B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120C7-76AC-4178-9F36-B75E0A0A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2A282-6CE3-4613-93AE-3DBBF4A5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9F53A-E923-4A01-B3AE-719533E5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9A3324-C3E5-48A0-B8D5-10218063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2B66E-05F5-4E56-905F-4283C3B0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82345-29A6-4414-8E41-37278253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4C617-987C-4ACC-A7AD-BCB6EFEF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7CE34-6024-446B-A032-49815E1D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DA647-877E-4569-AAA3-7D03CD53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B97-B820-4DF3-8200-627BAF17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6EA2-CF15-4385-8CAE-EDD78BD7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64BCB-EDC6-4383-AB78-BFFEB9C5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9A9E8-9311-48FD-8D54-2B9AA656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4F70D-9CEA-416A-A7AD-D34D977B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79264-90A4-44DD-8DA5-1690A640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30318-D685-4F7E-8118-B2AF0C41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42F13-D61A-41F8-BF6E-EA9E4684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E81C4-2D70-4E27-850E-F2C7D716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42739-25A6-4545-94E5-31EADC8C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7AFA2-B9BF-4EB6-9CB2-97D01F3F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C15DE-0709-4531-ACB1-AF6C477F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42FA-AF59-4B3B-8968-6BF6941A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DB75B2-7DE5-4F0C-801D-9F1725A7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67668-27DD-463C-8FBB-C020D747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B4086-0E92-4929-A63F-DAAB9C2F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DEBDE-1D2F-4250-AC40-F59C1F7F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579F99-D832-48C7-BA84-73959B93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55EFB9-8D19-416E-98E1-B4F7CCC2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5E1611-E641-4D6E-A634-DDD79070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384434-9758-4919-8D45-3853F651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CEEE57-22AD-4AFE-8FC9-6F951F63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8E350-4C9F-47F0-A446-A657D9E3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9C75-96F5-4E6A-A259-A4A071BC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395054-AFFF-4A1E-AAA1-841DBE14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16842-F5A5-426F-B8CF-1329DB26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C85D5-F5A7-4C1B-B7A8-E70A5E15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003AA-261E-4211-949F-BAF5BB93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0C2F17-D08A-4C73-AECF-A062267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7F09BB-BA9D-436B-A068-1FED5238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7EF4FE-4E91-4960-A82A-91FA76C4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E01C4F-08A1-49EC-9DC8-E7A088AB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041F5-8CBF-4D13-A128-61E0DE4C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52909-43AE-471C-94BC-5B81EBEE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1C16-2391-4BC1-9831-CE9BEDBA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0DCFA8-E1A5-4A20-A4E4-674272AA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0385E0-14C6-4D27-A807-CC4EB9A0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4EC2C-6AF4-4CBF-8B69-EECF8F20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82D4D-FDAC-40E9-BD86-D94F9777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4269EE-C988-4770-AEC5-E8438E68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1C0355-C6E3-41F3-94F0-01BF2699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75AFBF-BD08-4DAE-88CB-FF4E7D43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359AB-8B72-4C6D-A4C6-C9C30EDD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FA1DA-A309-4E4C-9B6F-B7EBAD3A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52EE7F-7EEA-40E0-8235-19A197D6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8D22-707C-4F83-BB33-8B45A1F8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5A99B4-A40D-45C9-8FE1-F6948612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4D538-414C-4414-BFBD-6569A584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2FEA3D-A485-4CCE-8A89-493AE05F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8A7D67-53CE-4059-B503-4FF7F972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36C04-E3E9-4494-949C-9449255F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21CA1-CB32-45CF-A566-A4AF4C63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7C8D57-4B1A-4830-B883-A604847E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090B2-3E01-45E8-8047-106767DA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719AE-8DCC-402B-BC70-F6D6C81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04B77E-8B49-4FDA-B29A-E5858BCC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3ACE-BA7D-4449-AF34-1AE88E10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663C2-CA07-401E-91A0-ED53EDC5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FFF856-A478-4E82-8B0D-2D7CCFCE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6B810-B045-430F-88F8-FA0EBFBB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9DE89-FEDA-4147-B0FF-DB48B893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8428A-A981-4EEE-BD12-9E9B08D3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DC84-5978-4EE2-AFF2-54CFA08D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993F-5EAA-4D6F-86E3-B1F26EBD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B22-7AF7-4BF2-B1E4-76F73ED6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3AAC-4A82-40D6-B395-235B9694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96E4-D4DC-4AE7-ACA6-A24FF288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83BD-8088-4C1F-83D3-80C81389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B305-1F8B-48AD-9878-66506963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47D2-39E6-483E-99E4-E13A0BFD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00D8-9F04-4511-BACA-9038A0E2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3F669-D343-428B-9534-19B92FB4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40FE2-6C96-421E-8409-1F94A54D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F4BF-643F-4854-A85C-25429D63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57207-9D60-4D34-B88C-DB9FF9D6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24A-7423-4D36-B532-533C6C70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F749-E92B-4984-882F-B74768A4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55B28-D250-4AB3-8ABF-C3CF7628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8093-B4C2-4283-AB80-CB996D90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D386-43E9-409A-B32E-B6956E46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3B34-96B0-4A0B-89AC-DF362ED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DF46-DDE5-4046-8ECA-F5861165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43AC-E28F-4E3D-BECA-61A44649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DA34D-9BB4-41B5-B461-05A4A80A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9C66D-09EB-4777-B389-3A87E23B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59525-5196-472F-8DF2-19507E7C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4B4-347B-4EC4-8C1D-1E2402BB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DB1B5-51E6-4974-AB47-3884F750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AB74C-A64C-4BC9-B412-4D8295CF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2D8B6-5F77-4F64-894F-7E12C6C8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28D1B-E557-4B75-B517-C29CB7C3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97BDF-FB17-4614-AD5B-FB8F10B6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69D24-B6FA-4721-B0B4-68E77C21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6AC3D-72AA-4517-B7C6-E8774F62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75B19-9D82-4B5D-9CCA-B46FA938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82260-E5EE-4A73-9024-01D56499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CC463-5488-408F-91A3-9A2D1C89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D39-60C8-432D-BDC5-6692F8A8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C5CA5-02E3-4BC9-B5FC-6731BC27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EF7D-614C-4DB8-8F08-EFF58101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F2E71-8A4F-44B5-83EB-2F4A08EF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CCE85-777F-4159-B31F-9727C582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6B190-6EF8-4C43-BB0C-486BB10F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0B5FB-89D9-4932-AE4F-2BF97EC4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02AC7-5C5C-4E79-B969-841DC39E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5B28-6DCC-43EF-8FB6-4FDE316D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C461C-7060-4070-A393-983F52E0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D956-5709-478C-9492-2E4BBBC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150-9525-49D3-B9B0-7AE8E183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D745F-C730-4663-9CEC-1EBE3FAE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F5055-5FB8-4048-8BC1-9DEC07C6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0C703-1315-4DAC-B2A6-FE73FEA0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5DFCA-031E-49F0-AC49-091FFBCC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7BB53-FA5A-46FA-8123-A82CFB2E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7D44D-7F79-42D0-8517-99E7FAC5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74716-1102-40CF-91E5-3ADE6DAB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83FAB-E7EF-4566-91DD-31525B71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FDF83-D68E-4A7F-818C-911914E9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A090B-748F-4E50-8083-79E024C4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0D6-0BB5-4AD3-B317-D810DEB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C82C7-9A3B-4450-B9A5-4E94CB27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48077-18B9-4357-A2E7-B8513293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44292-75AD-41CE-AC85-76AE1D23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BE1E5-C87B-4C0E-BB7C-5B5CD5BB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7FD3-7C95-4BBD-9CED-ABBB546F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9EE3F-6A5F-4359-8256-33E29B32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F13A1-82F1-4C2C-9E6F-02949C5D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9EB68-6D5C-4258-93C9-76B4C131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52786-84BD-4139-A2DF-4037BFED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8648-A20D-4A35-B9DE-26AC1DB8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7ED-6544-4BD9-9CA6-0FA8F785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36DE5-E62A-4B8B-9D19-DC9CEEEC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1046E-E359-4072-B65B-D6AA775A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0C56E-3CC2-4ED5-B4C8-FED39A00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1DE84-A102-4012-B66E-4BE10853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DDC3A-BC6C-4289-AAD4-31DC63A5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9B67F-B435-4790-A364-E336B3DE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5EB0A-388A-406D-8421-7276A244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0FC1E-6479-41F6-B5B9-F5C7F63C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66F89-7EC4-4696-B25B-589A2F7F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49999-D56C-4CA6-A222-27F8E9D9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63A4-4C6E-47E5-9D8D-15C170F28C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F270-186D-433E-B45E-4109F608B9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4898-41BD-4552-BD97-ECB7DE41B5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ABC9-6F3B-4B98-9331-75A268A40E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53AD-1555-48E5-A2EA-D9B47A62FA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2F32-DCBC-4260-9888-AF6B57ABCC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EDD7-7845-4D3D-96AC-C36B1DCE5C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E6B0-147E-4AC9-8CA8-0DC44F0277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9ED8-A1AE-4950-BEFA-4306ACB798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EDEA-4E4A-4ED7-86F9-6D7B0B2AD9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8908-9184-4649-B034-1620472D26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E4B1-A415-439C-8786-F27D7F6097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BA6F-E10B-4E8B-BE39-5F14C7CFFA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22E5-2837-4F2D-82B2-2051007E75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3B83-538E-4731-9DD2-5B12F6F277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FF23-F4D2-4A70-BA21-32B4EDA0B0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1A02-4C0C-4218-A743-26A5976A5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F93E-FDDE-492D-B783-C9C823EF63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F977-2216-4722-B831-A364F948EB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22F8-2508-4C02-9391-5678E82560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D5B6-9090-4998-AEA7-0C7D29A6B6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E34E-9AAE-4816-B5FF-9A5433A5B5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2A0F-7983-4046-9084-D36836B15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320C-C2DF-49F9-948F-106F1E133F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510E-302D-4234-9ADC-175FF00349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A714-7BA7-4AE0-9B9E-9157240910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DB9-F278-4A00-83E8-5D2A2E75D0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C9BF-9255-417A-B660-37F58E6F53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0D3C-D894-4B4D-AD3D-B03455172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70ED-02B6-422B-BAAC-7855FC2956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F1D1-95B4-46D1-8439-5C825ED502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7B45-69A6-4A1D-942F-6C85CE2663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7375-524D-413D-93E5-0F93B56674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559C-9091-4202-84FA-0B3FB8FAB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2A3A-E4F9-4D24-95FD-4DE4007B13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7912-157C-439A-BF09-9B5D24FB16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ECDC-8A13-4345-ABB8-811DF50BB0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41F9-97F8-4624-A98A-3D4579A95E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3241-10DE-4F1C-AF29-81CA10817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5B98-21F6-4B36-A24D-F06FEC80F3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90520" y="2862360"/>
            <a:ext cx="676296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9633" descr=""/>
          <p:cNvPicPr/>
          <p:nvPr/>
        </p:nvPicPr>
        <p:blipFill>
          <a:blip r:embed="rId1"/>
          <a:stretch/>
        </p:blipFill>
        <p:spPr>
          <a:xfrm>
            <a:off x="609480" y="1052640"/>
            <a:ext cx="7925040" cy="21524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69634" descr=""/>
          <p:cNvPicPr/>
          <p:nvPr/>
        </p:nvPicPr>
        <p:blipFill>
          <a:blip r:embed="rId2"/>
          <a:stretch/>
        </p:blipFill>
        <p:spPr>
          <a:xfrm>
            <a:off x="304920" y="3586320"/>
            <a:ext cx="8534160" cy="22190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100800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639200" y="1484280"/>
            <a:ext cx="1008000" cy="493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4284720" y="2349360"/>
            <a:ext cx="1008000" cy="4939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7624800" y="233532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1851120" y="3933720"/>
            <a:ext cx="1008000" cy="493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4643280" y="3933720"/>
            <a:ext cx="100836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7624800" y="3933720"/>
            <a:ext cx="100800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2225520" y="4797360"/>
            <a:ext cx="906480" cy="493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4643280" y="465300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7682040" y="4797360"/>
            <a:ext cx="12110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2080" y="880920"/>
            <a:ext cx="86198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819000" y="895320"/>
            <a:ext cx="7506000" cy="5067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1584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771640" y="1700280"/>
            <a:ext cx="1584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763640" y="242100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1403280" y="3141720"/>
            <a:ext cx="1584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4284720" y="314172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2843280" y="3860640"/>
            <a:ext cx="144144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5435640" y="386064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5364000" y="5315040"/>
            <a:ext cx="1224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538200" y="1271520"/>
            <a:ext cx="8067600" cy="4314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516720" y="20462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4356000" y="348624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4427640" y="495612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519120" y="852480"/>
            <a:ext cx="8105760" cy="5600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258920" y="4956120"/>
            <a:ext cx="324180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1042920" y="5891040"/>
            <a:ext cx="324180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5292720" y="4738680"/>
            <a:ext cx="3241800" cy="922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5003640" y="5891040"/>
            <a:ext cx="3241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71440" y="1362240"/>
            <a:ext cx="8601120" cy="4133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755640" y="3832200"/>
            <a:ext cx="7272360" cy="936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611280" y="4738680"/>
            <a:ext cx="7272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262080" y="176040"/>
            <a:ext cx="8619840" cy="6505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00000" y="2090880"/>
            <a:ext cx="431964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755640" y="2708280"/>
            <a:ext cx="431964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828720" y="3243240"/>
            <a:ext cx="431964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684360" y="3860640"/>
            <a:ext cx="431928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828720" y="4395960"/>
            <a:ext cx="431964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684360" y="5013360"/>
            <a:ext cx="431928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755640" y="559116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611280" y="6208560"/>
            <a:ext cx="784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271440" y="808200"/>
            <a:ext cx="8601120" cy="59338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900000" y="4941720"/>
            <a:ext cx="741708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900000" y="5530680"/>
            <a:ext cx="741708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971640" y="6151680"/>
            <a:ext cx="777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2231" descr=""/>
          <p:cNvPicPr/>
          <p:nvPr/>
        </p:nvPicPr>
        <p:blipFill>
          <a:blip r:embed="rId1"/>
          <a:stretch/>
        </p:blipFill>
        <p:spPr>
          <a:xfrm>
            <a:off x="685800" y="2567160"/>
            <a:ext cx="7772400" cy="1723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8496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2:5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